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apbig0g.wav" ContentType="audio/x-wav"/>
  <Override PartName="/ppt/media/bserie06.wav" ContentType="audio/x-wav"/>
  <Override PartName="/ppt/media/jetflyby2.wav" ContentType="audio/x-wav"/>
  <Override PartName="/ppt/media/hzipup01.wav" ContentType="audio/x-wav"/>
  <Override PartName="/ppt/media/chimes.wav" ContentType="audio/x-wav"/>
  <Override PartName="/ppt/media/lzipup0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A2CC-276E-46F2-B1FD-68876E9D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F80-E3C3-4152-81E6-0CAC5ADB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29D-E73E-4138-8862-307DB8E2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C00-E2CB-40B1-888C-B2AF4845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831-D30E-4672-A3CD-2E919192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09A-5826-43EB-A995-A84BF8B5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B95-9914-4B14-86B5-15D7B4EB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852-DBB4-4FF3-8ABF-8AD75CD6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D42-615C-4F2A-B803-092A754E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D92-ADE2-472A-9CA3-3653B60A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175-FB8F-49D9-A696-76583AE9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77C-390E-42A2-8414-AC4C738C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D2C5-FB68-4A46-B423-282FF02E1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bserie06.wav"/><Relationship Id="rId6" Type="http://schemas.openxmlformats.org/officeDocument/2006/relationships/audio" Target="../media/hzipup01.wav"/><Relationship Id="rId7" Type="http://schemas.openxmlformats.org/officeDocument/2006/relationships/audio" Target="../media/zapbig0g.wav"/><Relationship Id="rId8" Type="http://schemas.openxmlformats.org/officeDocument/2006/relationships/audio" Target="../media/jetflyby2.wav"/><Relationship Id="rId9" Type="http://schemas.openxmlformats.org/officeDocument/2006/relationships/audio" Target="../media/zapbig0g.wav"/><Relationship Id="rId10" Type="http://schemas.openxmlformats.org/officeDocument/2006/relationships/audio" Target="../media/jetflyby2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audio" Target="../media/jetflyby2.wav"/><Relationship Id="rId17" Type="http://schemas.openxmlformats.org/officeDocument/2006/relationships/audio" Target="../media/jetflyby2.wav"/><Relationship Id="rId18" Type="http://schemas.openxmlformats.org/officeDocument/2006/relationships/audio" Target="../media/jetflyby2.wav"/><Relationship Id="rId19" Type="http://schemas.openxmlformats.org/officeDocument/2006/relationships/audio" Target="../media/jetflyby2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bserie06.wav"/><Relationship Id="rId4" Type="http://schemas.openxmlformats.org/officeDocument/2006/relationships/audio" Target="../media/bserie06.wav"/><Relationship Id="rId5" Type="http://schemas.openxmlformats.org/officeDocument/2006/relationships/audio" Target="../media/hzipup01.wav"/><Relationship Id="rId6" Type="http://schemas.openxmlformats.org/officeDocument/2006/relationships/audio" Target="../media/zapbig0g.wav"/><Relationship Id="rId7" Type="http://schemas.openxmlformats.org/officeDocument/2006/relationships/audio" Target="../media/zapbig0g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bserie06.wav"/><Relationship Id="rId3" Type="http://schemas.openxmlformats.org/officeDocument/2006/relationships/audio" Target="../media/zapbig0g.wav"/><Relationship Id="rId4" Type="http://schemas.openxmlformats.org/officeDocument/2006/relationships/audio" Target="../media/zapbig0g.wav"/><Relationship Id="rId5" Type="http://schemas.openxmlformats.org/officeDocument/2006/relationships/audio" Target="../media/zapbig0g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jetflyby2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audio" Target="../media/jetflyby2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bserie06.wav"/><Relationship Id="rId3" Type="http://schemas.openxmlformats.org/officeDocument/2006/relationships/audio" Target="../media/zapbig0g.wav"/><Relationship Id="rId4" Type="http://schemas.openxmlformats.org/officeDocument/2006/relationships/audio" Target="../media/jetflyby2.wav"/><Relationship Id="rId5" Type="http://schemas.openxmlformats.org/officeDocument/2006/relationships/audio" Target="../media/chimes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himes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himes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serie06.wav"/><Relationship Id="rId2" Type="http://schemas.openxmlformats.org/officeDocument/2006/relationships/audio" Target="../media/zapbig0g.wav"/><Relationship Id="rId3" Type="http://schemas.openxmlformats.org/officeDocument/2006/relationships/audio" Target="../media/jetflyby2.wav"/><Relationship Id="rId4" Type="http://schemas.openxmlformats.org/officeDocument/2006/relationships/audio" Target="../media/jetflyby2.wav"/><Relationship Id="rId5" Type="http://schemas.openxmlformats.org/officeDocument/2006/relationships/audio" Target="../media/chimes.wav"/><Relationship Id="rId6" Type="http://schemas.openxmlformats.org/officeDocument/2006/relationships/audio" Target="../media/jetflyby2.wav"/><Relationship Id="rId7" Type="http://schemas.openxmlformats.org/officeDocument/2006/relationships/audio" Target="../media/jetflyby2.wav"/><Relationship Id="rId8" Type="http://schemas.openxmlformats.org/officeDocument/2006/relationships/audio" Target="../media/zapbig0g.wav"/><Relationship Id="rId9" Type="http://schemas.openxmlformats.org/officeDocument/2006/relationships/audio" Target="../media/jetflyby2.wav"/><Relationship Id="rId10" Type="http://schemas.openxmlformats.org/officeDocument/2006/relationships/audio" Target="../media/jetflyby2.wav"/><Relationship Id="rId11" Type="http://schemas.openxmlformats.org/officeDocument/2006/relationships/audio" Target="../media/jetflyby2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jetflyby2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zipup0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 or 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33440" y="1917720"/>
                <a:ext cx="762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76360" y="4687920"/>
                <a:ext cx="895320" cy="19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792000" y="4632480"/>
            <a:ext cx="17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9560" y="385128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50960" y="1884240"/>
                <a:ext cx="493920" cy="13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641600" y="3232080"/>
                <a:ext cx="538200" cy="13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3429000" y="119376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Since there is a common denominator, simply add or subtract the num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25416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Then, put it over the common denomin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46280" y="5681520"/>
                <a:ext cx="504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429000" y="341136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Finally, write it as a mixed number and reduce,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511360" y="5207040"/>
                <a:ext cx="9525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457440" y="4691160"/>
                <a:ext cx="67320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541680" y="5643720"/>
                <a:ext cx="50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51440" y="4776840"/>
                <a:ext cx="1009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029120" y="5626080"/>
                <a:ext cx="1009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81760" y="5208480"/>
                <a:ext cx="9522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010200" y="4691160"/>
                <a:ext cx="61776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040440" y="567072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 or 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88800" y="1852560"/>
                <a:ext cx="8082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400040" y="4622760"/>
                <a:ext cx="1006560" cy="19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770040" y="4567320"/>
            <a:ext cx="171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7240" y="3633840"/>
            <a:ext cx="6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Lucida Sans Unicode"/>
                <a:ea typeface="Lucida Sans Unicode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517760" y="1819440"/>
                <a:ext cx="71748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30360" y="3166920"/>
                <a:ext cx="717480" cy="13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429000" y="138924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Georgia"/>
              </a:rPr>
              <a:t>Since there is a common denominator, simply add or subtract the numer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28908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Georgia"/>
              </a:rPr>
              <a:t>Then, put it over the common denomin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486080" y="5645160"/>
                <a:ext cx="784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3429000" y="391320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Georgia"/>
              </a:rPr>
              <a:t>Finally, write it as a mixed number and reduce, if pos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 or 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1112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63400" y="3230640"/>
                <a:ext cx="671760" cy="19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073160" y="1558800"/>
                <a:ext cx="1301760" cy="13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429000" y="119376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Since there is a common denominator, simply add or subtract the num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25416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Then, put it over the common denomin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42960" y="4222800"/>
                <a:ext cx="50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429000" y="341136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Finally, write it as a mixed number and reduce,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155600" y="3295800"/>
                <a:ext cx="10098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33640" y="4145040"/>
                <a:ext cx="1009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055960" y="3911760"/>
                <a:ext cx="5601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637000" y="3232080"/>
                <a:ext cx="6174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666880" y="4211640"/>
                <a:ext cx="5605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Add or Subtra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45960" y="1917720"/>
                <a:ext cx="806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33440" y="3230640"/>
                <a:ext cx="1006560" cy="19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066680" y="1538280"/>
                <a:ext cx="179568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429000" y="119376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Since there is a common denominator, simply add or subtract the num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5416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Then, put it over the common denomin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440000" y="4222800"/>
                <a:ext cx="7855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429000" y="341136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Finally, write it as a mixed number and reduce,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47720" y="5468760"/>
                <a:ext cx="95256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25680" y="4952880"/>
                <a:ext cx="100944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638360" y="5905440"/>
                <a:ext cx="7858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287440" y="5038560"/>
                <a:ext cx="100980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265480" y="5888160"/>
                <a:ext cx="1009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317760" y="5470560"/>
                <a:ext cx="9525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246560" y="4952880"/>
                <a:ext cx="61740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305240" y="590400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equivalent fractions with the least common denomina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12840" y="2016000"/>
                <a:ext cx="3530520" cy="15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92280" y="3987720"/>
                <a:ext cx="8953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819680" y="1585800"/>
            <a:ext cx="4324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To find the least common denominator, take the larger of the two denominators, name its multiples until the smaller denominators go into 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16160" y="3987720"/>
                <a:ext cx="8953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25560" y="2835360"/>
                <a:ext cx="728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49320" y="2009880"/>
                <a:ext cx="728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80920" y="4097160"/>
                <a:ext cx="5590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683160" y="2776680"/>
                <a:ext cx="6174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660840" y="1990800"/>
                <a:ext cx="617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382840" y="4119480"/>
                <a:ext cx="558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189400" y="4467240"/>
                <a:ext cx="781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97280" y="5178600"/>
            <a:ext cx="5346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Then multiply the numerator by what the denominator was multiplied by to get the new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equivalent fractions with the least common denomina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1680" y="1886040"/>
                <a:ext cx="352116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2280" y="3987720"/>
                <a:ext cx="8953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4819680" y="1585800"/>
            <a:ext cx="4324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To find the least common denominator, take the larger of the two denominators, name its multiples until the smaller denominators go into 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16160" y="3987720"/>
                <a:ext cx="8953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031760" y="2754360"/>
                <a:ext cx="784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052640" y="1908000"/>
                <a:ext cx="78408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80920" y="4125960"/>
                <a:ext cx="559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27360" y="2749680"/>
                <a:ext cx="7304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605040" y="1897200"/>
                <a:ext cx="730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409840" y="4119480"/>
                <a:ext cx="50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148360" y="4424400"/>
                <a:ext cx="557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3797280" y="5178600"/>
            <a:ext cx="5346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Then multiply the numerator by what the denominator was multiplied by to get the new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862600" y="4406760"/>
                <a:ext cx="7812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equivalent fractions with the least common denomina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01680" y="1886040"/>
                <a:ext cx="352116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803160" y="3987720"/>
                <a:ext cx="6717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819680" y="1585800"/>
            <a:ext cx="4324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To find the least common denominator, take the larger of the two denominators, name its multiples until the smaller denominators go into 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327400" y="3987720"/>
                <a:ext cx="67140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081080" y="2768760"/>
                <a:ext cx="7272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081080" y="1922400"/>
                <a:ext cx="7272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09720" y="4098960"/>
                <a:ext cx="501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643200" y="2733840"/>
                <a:ext cx="7858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665520" y="1882800"/>
                <a:ext cx="785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382840" y="4083120"/>
                <a:ext cx="55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175360" y="4424400"/>
                <a:ext cx="501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797280" y="5178600"/>
            <a:ext cx="5346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Then multiply the numerator by what the denominator was multiplied by to get the new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996160" y="4424400"/>
                <a:ext cx="5569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25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8 –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Find equivalent fractions with the least common denomina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01680" y="1886040"/>
                <a:ext cx="352116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92280" y="3987720"/>
                <a:ext cx="8953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819680" y="1585800"/>
            <a:ext cx="4324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To find the least common denominator, take the larger of the two denominators, name its multiples until the smaller denominators go into 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16160" y="3987720"/>
                <a:ext cx="89532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081080" y="2768760"/>
                <a:ext cx="7272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081080" y="1922400"/>
                <a:ext cx="7272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909720" y="4098960"/>
                <a:ext cx="501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643200" y="2733840"/>
                <a:ext cx="7858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665520" y="1882800"/>
                <a:ext cx="785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382840" y="4083120"/>
                <a:ext cx="55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175360" y="4424400"/>
                <a:ext cx="5014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3797280" y="5178600"/>
            <a:ext cx="5346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Georgia"/>
              </a:rPr>
              <a:t>Then multiply the numerator by what the denominator was multiplied by to get the new denomin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970600" y="4402080"/>
                <a:ext cx="7794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serie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25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33524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95, 8 – 1 #1-12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age 197, 8 – 2 #1-1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orksheet #5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MON SKELTON</cp:lastModifiedBy>
  <dcterms:modified xsi:type="dcterms:W3CDTF">2005-01-18T13:54:04Z</dcterms:modified>
  <cp:revision>73</cp:revision>
  <dc:subject/>
  <dc:title>Slide 1</dc:title>
</cp:coreProperties>
</file>